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E68B-4343-4439-8AF4-567D5CA3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770-6FB0-4E2B-A867-EF6A6B32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443-1EB9-48A4-B542-CE92369B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6A1-1A85-4131-A34A-920720AC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12B-2018-4AE6-B730-83CCC6A3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84E-2B69-4490-8CA8-5F5EFA12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BE96-A24F-4204-86BC-53D9F1B5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47FF-029C-402B-9B57-ADFB971F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016-3F9E-46D6-BA1E-B929FA03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9C9A-402E-45BE-BD3C-7A997D32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BE4-BB62-4968-93DA-B5FD615D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001-1D5A-4224-8B3F-6EC98388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EA97-5E39-4DA7-9055-3599971D01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екомендации по составлению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Формы №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»</a:t>
            </a:r>
            <a:br>
              <a:rPr sz="40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таблицы: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3100, 3200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143000" y="3809880"/>
            <a:ext cx="7848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 2021 го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04920" y="4572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апример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нутрибольничный перевод в дневной стационар в А* городской больниц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523880"/>
          <a:ext cx="3581280" cy="1371600"/>
        </p:xfrm>
        <a:graphic>
          <a:graphicData uri="http://schemas.openxmlformats.org/drawingml/2006/table">
            <a:tbl>
              <a:tblPr/>
              <a:tblGrid>
                <a:gridCol w="1689120"/>
                <a:gridCol w="18921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я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AutoShape 20"/>
          <p:cNvSpPr/>
          <p:nvPr/>
        </p:nvSpPr>
        <p:spPr>
          <a:xfrm rot="18991800">
            <a:off x="685800" y="2361960"/>
            <a:ext cx="1457280" cy="691920"/>
          </a:xfrm>
          <a:prstGeom prst="rightArrow">
            <a:avLst>
              <a:gd name="adj1" fmla="val 50000"/>
              <a:gd name="adj2" fmla="val 52653"/>
            </a:avLst>
          </a:prstGeom>
          <a:solidFill>
            <a:srgbClr val="c0504d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тупи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1"/>
          <p:cNvSpPr/>
          <p:nvPr/>
        </p:nvSpPr>
        <p:spPr>
          <a:xfrm>
            <a:off x="3809880" y="16002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c0504d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ыписа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еводом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410080" y="1523880"/>
          <a:ext cx="3581640" cy="1311480"/>
        </p:xfrm>
        <a:graphic>
          <a:graphicData uri="http://schemas.openxmlformats.org/drawingml/2006/table">
            <a:tbl>
              <a:tblPr/>
              <a:tblGrid>
                <a:gridCol w="1676520"/>
                <a:gridCol w="1905120"/>
              </a:tblGrid>
              <a:tr h="3668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я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3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ой стационар при поликлин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50000"/>
                      </a:srgbClr>
                    </a:solidFill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Rectangle 2"/>
          <p:cNvSpPr/>
          <p:nvPr/>
        </p:nvSpPr>
        <p:spPr>
          <a:xfrm>
            <a:off x="2819520" y="3657600"/>
            <a:ext cx="365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ФФСН №30,  таблица 3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0"/>
          <p:cNvSpPr/>
          <p:nvPr/>
        </p:nvSpPr>
        <p:spPr>
          <a:xfrm rot="5400000">
            <a:off x="4381560" y="-952560"/>
            <a:ext cx="457200" cy="8610480"/>
          </a:xfrm>
          <a:custGeom>
            <a:avLst/>
            <a:gdLst>
              <a:gd name="textAreaLeft" fmla="*/ 0 w 457200"/>
              <a:gd name="textAreaRight" fmla="*/ 164880 w 457200"/>
              <a:gd name="textAreaTop" fmla="*/ 224280 h 8610480"/>
              <a:gd name="textAreaBottom" fmla="*/ 8386200 h 861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" y="1143000"/>
            <a:ext cx="3581280" cy="380880"/>
          </a:xfrm>
          <a:prstGeom prst="rect">
            <a:avLst/>
          </a:prstGeom>
          <a:solidFill>
            <a:srgbClr val="c0504d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руглосуточный стациона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410080" y="1143000"/>
            <a:ext cx="3581640" cy="380880"/>
          </a:xfrm>
          <a:prstGeom prst="rect">
            <a:avLst/>
          </a:prstGeom>
          <a:solidFill>
            <a:srgbClr val="c0504d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невной стациона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66680" y="4114800"/>
          <a:ext cx="6782040" cy="2073240"/>
        </p:xfrm>
        <a:graphic>
          <a:graphicData uri="http://schemas.openxmlformats.org/drawingml/2006/table">
            <a:tbl>
              <a:tblPr/>
              <a:tblGrid>
                <a:gridCol w="2238480"/>
                <a:gridCol w="565200"/>
                <a:gridCol w="1289160"/>
                <a:gridCol w="1158840"/>
                <a:gridCol w="1530360"/>
              </a:tblGrid>
              <a:tr h="33516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дневные стационары  (всех тип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Скругленный прямоугольник 13"/>
          <p:cNvSpPr/>
          <p:nvPr/>
        </p:nvSpPr>
        <p:spPr>
          <a:xfrm>
            <a:off x="6172200" y="2743200"/>
            <a:ext cx="2971800" cy="1447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тория болезни стационарного больного закры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Прямая со стрелкой 14"/>
          <p:cNvCxnSpPr/>
          <p:nvPr/>
        </p:nvCxnSpPr>
        <p:spPr>
          <a:xfrm>
            <a:off x="2361960" y="2133360"/>
            <a:ext cx="2515320" cy="3810600"/>
          </a:xfrm>
          <a:prstGeom prst="straightConnector1">
            <a:avLst/>
          </a:prstGeom>
          <a:ln w="63360">
            <a:solidFill>
              <a:srgbClr val="cc0066"/>
            </a:solidFill>
            <a:miter/>
            <a:tailEnd len="med" type="arrow" w="med"/>
          </a:ln>
        </p:spPr>
      </p:cxnSp>
      <p:cxnSp>
        <p:nvCxnSpPr>
          <p:cNvPr id="81" name="Прямая со стрелкой 15"/>
          <p:cNvCxnSpPr/>
          <p:nvPr/>
        </p:nvCxnSpPr>
        <p:spPr>
          <a:xfrm>
            <a:off x="3428640" y="2133360"/>
            <a:ext cx="2591640" cy="3886920"/>
          </a:xfrm>
          <a:prstGeom prst="straightConnector1">
            <a:avLst/>
          </a:prstGeom>
          <a:ln w="63360">
            <a:solidFill>
              <a:srgbClr val="cc0066"/>
            </a:solidFill>
            <a:miter/>
            <a:tailEnd len="med" type="arrow" w="med"/>
          </a:ln>
        </p:spPr>
      </p:cxnSp>
      <p:cxnSp>
        <p:nvCxnSpPr>
          <p:cNvPr id="82" name="Прямая со стрелкой 16"/>
          <p:cNvCxnSpPr/>
          <p:nvPr/>
        </p:nvCxnSpPr>
        <p:spPr>
          <a:xfrm>
            <a:off x="3429000" y="2133360"/>
            <a:ext cx="4191840" cy="3810600"/>
          </a:xfrm>
          <a:prstGeom prst="straightConnector1">
            <a:avLst/>
          </a:prstGeom>
          <a:ln w="63360">
            <a:solidFill>
              <a:srgbClr val="cc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28600" y="22860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 marL="603360" indent="-603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апример, перевод в другую медицинскую организац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8600" y="1523880"/>
          <a:ext cx="3581280" cy="1341720"/>
        </p:xfrm>
        <a:graphic>
          <a:graphicData uri="http://schemas.openxmlformats.org/drawingml/2006/table">
            <a:tbl>
              <a:tblPr/>
              <a:tblGrid>
                <a:gridCol w="1689120"/>
                <a:gridCol w="1892160"/>
              </a:tblGrid>
              <a:tr h="3661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я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50000"/>
                      </a:srgbClr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AutoShape 20"/>
          <p:cNvSpPr/>
          <p:nvPr/>
        </p:nvSpPr>
        <p:spPr>
          <a:xfrm rot="18991800">
            <a:off x="685800" y="2361960"/>
            <a:ext cx="1457280" cy="691920"/>
          </a:xfrm>
          <a:prstGeom prst="rightArrow">
            <a:avLst>
              <a:gd name="adj1" fmla="val 50000"/>
              <a:gd name="adj2" fmla="val 52653"/>
            </a:avLst>
          </a:prstGeom>
          <a:solidFill>
            <a:srgbClr val="c0504d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тупи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609480" y="3581280"/>
            <a:ext cx="3353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ФФСН №30,  таблица 3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38"/>
          <p:cNvSpPr/>
          <p:nvPr/>
        </p:nvSpPr>
        <p:spPr>
          <a:xfrm rot="5400000">
            <a:off x="4381560" y="-952560"/>
            <a:ext cx="457200" cy="8610480"/>
          </a:xfrm>
          <a:custGeom>
            <a:avLst/>
            <a:gdLst>
              <a:gd name="textAreaLeft" fmla="*/ 0 w 457200"/>
              <a:gd name="textAreaRight" fmla="*/ 164880 w 457200"/>
              <a:gd name="textAreaTop" fmla="*/ 224280 h 8610480"/>
              <a:gd name="textAreaBottom" fmla="*/ 8386200 h 861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28600" y="1143000"/>
            <a:ext cx="3581280" cy="380880"/>
          </a:xfrm>
          <a:prstGeom prst="rect">
            <a:avLst/>
          </a:prstGeom>
          <a:solidFill>
            <a:srgbClr val="c0504d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** районная боль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334120" y="1143000"/>
            <a:ext cx="3581280" cy="380880"/>
          </a:xfrm>
          <a:prstGeom prst="rect">
            <a:avLst/>
          </a:prstGeom>
          <a:solidFill>
            <a:srgbClr val="c0504d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** областная боль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410080" y="1523880"/>
          <a:ext cx="3581640" cy="1279800"/>
        </p:xfrm>
        <a:graphic>
          <a:graphicData uri="http://schemas.openxmlformats.org/drawingml/2006/table">
            <a:tbl>
              <a:tblPr/>
              <a:tblGrid>
                <a:gridCol w="1676520"/>
                <a:gridCol w="1905120"/>
              </a:tblGrid>
              <a:tr h="3661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я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50000"/>
                      </a:srgbClr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28600" y="3962520"/>
          <a:ext cx="4038480" cy="1982520"/>
        </p:xfrm>
        <a:graphic>
          <a:graphicData uri="http://schemas.openxmlformats.org/drawingml/2006/table">
            <a:tbl>
              <a:tblPr/>
              <a:tblGrid>
                <a:gridCol w="1719360"/>
                <a:gridCol w="436320"/>
                <a:gridCol w="870120"/>
                <a:gridCol w="1012680"/>
              </a:tblGrid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2"/>
          <p:cNvSpPr/>
          <p:nvPr/>
        </p:nvSpPr>
        <p:spPr>
          <a:xfrm>
            <a:off x="5257800" y="3581280"/>
            <a:ext cx="3352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ФФСН №30,  таблица 3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876920" y="3962520"/>
          <a:ext cx="4038480" cy="1996920"/>
        </p:xfrm>
        <a:graphic>
          <a:graphicData uri="http://schemas.openxmlformats.org/drawingml/2006/table">
            <a:tbl>
              <a:tblPr/>
              <a:tblGrid>
                <a:gridCol w="1719000"/>
                <a:gridCol w="436680"/>
                <a:gridCol w="870120"/>
                <a:gridCol w="1012680"/>
              </a:tblGrid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AutoShape 271"/>
          <p:cNvSpPr/>
          <p:nvPr/>
        </p:nvSpPr>
        <p:spPr>
          <a:xfrm>
            <a:off x="3809880" y="16002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c0504d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ыписа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(переводом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685800" y="6095880"/>
            <a:ext cx="2819520" cy="457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3101 –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ВАЖНО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Скругленный прямоугольник 14"/>
          <p:cNvSpPr/>
          <p:nvPr/>
        </p:nvSpPr>
        <p:spPr>
          <a:xfrm>
            <a:off x="3276720" y="152280"/>
            <a:ext cx="2971800" cy="1447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тория болезни стационарного больного закры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Прямая со стрелкой 15"/>
          <p:cNvCxnSpPr/>
          <p:nvPr/>
        </p:nvCxnSpPr>
        <p:spPr>
          <a:xfrm>
            <a:off x="2895120" y="2133720"/>
            <a:ext cx="229320" cy="3505680"/>
          </a:xfrm>
          <a:prstGeom prst="straightConnector1">
            <a:avLst/>
          </a:prstGeom>
          <a:ln w="63360">
            <a:solidFill>
              <a:srgbClr val="cc0066"/>
            </a:solidFill>
            <a:miter/>
            <a:tailEnd len="med" type="arrow" w="med"/>
          </a:ln>
        </p:spPr>
      </p:cxnSp>
      <p:cxnSp>
        <p:nvCxnSpPr>
          <p:cNvPr id="98" name="Прямая со стрелкой 17"/>
          <p:cNvCxnSpPr/>
          <p:nvPr/>
        </p:nvCxnSpPr>
        <p:spPr>
          <a:xfrm>
            <a:off x="3428640" y="2057400"/>
            <a:ext cx="686520" cy="3582000"/>
          </a:xfrm>
          <a:prstGeom prst="straightConnector1">
            <a:avLst/>
          </a:prstGeom>
          <a:ln w="63360">
            <a:solidFill>
              <a:srgbClr val="cc0066"/>
            </a:solidFill>
            <a:miter/>
            <a:tailEnd len="med" type="arrow" w="med"/>
          </a:ln>
        </p:spPr>
      </p:cxnSp>
      <p:cxnSp>
        <p:nvCxnSpPr>
          <p:cNvPr id="99" name="Прямая со стрелкой 21"/>
          <p:cNvCxnSpPr/>
          <p:nvPr/>
        </p:nvCxnSpPr>
        <p:spPr>
          <a:xfrm flipH="1">
            <a:off x="7543080" y="2209680"/>
            <a:ext cx="305640" cy="3353760"/>
          </a:xfrm>
          <a:prstGeom prst="straightConnector1">
            <a:avLst/>
          </a:prstGeom>
          <a:ln w="63360">
            <a:solidFill>
              <a:srgbClr val="cc0066"/>
            </a:solidFill>
            <a:miter/>
            <a:tailEnd len="med" type="arrow" w="med"/>
          </a:ln>
        </p:spPr>
      </p:cxnSp>
      <p:cxnSp>
        <p:nvCxnSpPr>
          <p:cNvPr id="100" name="Прямая со стрелкой 22"/>
          <p:cNvCxnSpPr/>
          <p:nvPr/>
        </p:nvCxnSpPr>
        <p:spPr>
          <a:xfrm>
            <a:off x="8076960" y="2209680"/>
            <a:ext cx="533880" cy="3353760"/>
          </a:xfrm>
          <a:prstGeom prst="straightConnector1">
            <a:avLst/>
          </a:prstGeom>
          <a:ln w="63360">
            <a:solidFill>
              <a:srgbClr val="cc0066"/>
            </a:solidFill>
            <a:miter/>
            <a:tailEnd len="med" type="arrow" w="med"/>
          </a:ln>
        </p:spPr>
      </p:cxnSp>
      <p:sp>
        <p:nvSpPr>
          <p:cNvPr id="101" name="AutoShape 59"/>
          <p:cNvSpPr/>
          <p:nvPr/>
        </p:nvSpPr>
        <p:spPr>
          <a:xfrm rot="2509200">
            <a:off x="7641720" y="2760840"/>
            <a:ext cx="1457640" cy="691920"/>
          </a:xfrm>
          <a:prstGeom prst="rightArrow">
            <a:avLst>
              <a:gd name="adj1" fmla="val 50000"/>
              <a:gd name="adj2" fmla="val 52666"/>
            </a:avLst>
          </a:prstGeom>
          <a:solidFill>
            <a:srgbClr val="c0504d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ыпис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007U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905120" y="4038480"/>
            <a:ext cx="4800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Сведения о движении пациентов в строке 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981080" y="4343400"/>
            <a:ext cx="4800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Сведения о движении пациентов в строке 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752480" y="4876920"/>
            <a:ext cx="4800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Сведения о движении пациентов в строке 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981080" y="5867280"/>
            <a:ext cx="6172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Сведения о движении пациентов в строке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Прямая со стрелкой 7"/>
          <p:cNvCxnSpPr>
            <a:stCxn id="103" idx="1"/>
          </p:cNvCxnSpPr>
          <p:nvPr/>
        </p:nvCxnSpPr>
        <p:spPr>
          <a:xfrm flipH="1">
            <a:off x="914040" y="4222800"/>
            <a:ext cx="991440" cy="273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Прямая со стрелкой 8"/>
          <p:cNvCxnSpPr>
            <a:stCxn id="104" idx="1"/>
          </p:cNvCxnSpPr>
          <p:nvPr/>
        </p:nvCxnSpPr>
        <p:spPr>
          <a:xfrm flipH="1">
            <a:off x="1142640" y="4527720"/>
            <a:ext cx="838800" cy="273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Прямая со стрелкой 9"/>
          <p:cNvCxnSpPr/>
          <p:nvPr/>
        </p:nvCxnSpPr>
        <p:spPr>
          <a:xfrm flipH="1">
            <a:off x="990360" y="5105160"/>
            <a:ext cx="9151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0" name="Прямая со стрелкой 10"/>
          <p:cNvCxnSpPr>
            <a:stCxn id="106" idx="1"/>
          </p:cNvCxnSpPr>
          <p:nvPr/>
        </p:nvCxnSpPr>
        <p:spPr>
          <a:xfrm flipH="1" flipV="1">
            <a:off x="1294560" y="5486040"/>
            <a:ext cx="686520" cy="565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1" name="Text Box 7"/>
          <p:cNvSpPr/>
          <p:nvPr/>
        </p:nvSpPr>
        <p:spPr>
          <a:xfrm>
            <a:off x="6019920" y="30492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Таблица 3100 заполняе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по профилям коек, а не по наименованию от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447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31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05"/>
          <p:cNvSpPr/>
          <p:nvPr/>
        </p:nvSpPr>
        <p:spPr>
          <a:xfrm>
            <a:off x="1219320" y="1066680"/>
            <a:ext cx="6324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оечный фонд и его использ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280" y="1905120"/>
          <a:ext cx="8610840" cy="4376520"/>
        </p:xfrm>
        <a:graphic>
          <a:graphicData uri="http://schemas.openxmlformats.org/drawingml/2006/table">
            <a:tbl>
              <a:tblPr/>
              <a:tblGrid>
                <a:gridCol w="2895840"/>
                <a:gridCol w="761760"/>
                <a:gridCol w="1524240"/>
                <a:gridCol w="1941480"/>
                <a:gridCol w="1487520"/>
              </a:tblGrid>
              <a:tr h="3049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сположенных в сельской мес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вы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доминальной хирург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1928"/>
          <p:cNvSpPr/>
          <p:nvPr/>
        </p:nvSpPr>
        <p:spPr>
          <a:xfrm>
            <a:off x="3809880" y="3352680"/>
            <a:ext cx="4267440" cy="60984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Число коек в графе 3 указывается по состоянию на 31.12. отчетного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929"/>
          <p:cNvSpPr/>
          <p:nvPr/>
        </p:nvSpPr>
        <p:spPr>
          <a:xfrm>
            <a:off x="380880" y="380880"/>
            <a:ext cx="8077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заполнении таблицы 3100 следует иметь в виду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930"/>
          <p:cNvSpPr/>
          <p:nvPr/>
        </p:nvSpPr>
        <p:spPr>
          <a:xfrm>
            <a:off x="3809880" y="4038480"/>
            <a:ext cx="5181840" cy="20574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Число коек в графе 4 указывается по медицинским организациям и их структурным подразделениям, расположенным в сельской местности, то есть в сельских поселениях сельских муниципальных образованиях и в сельских населенных пунктах, входящих в состав городских поселений или городских округ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" y="838080"/>
          <a:ext cx="8610480" cy="4724640"/>
        </p:xfrm>
        <a:graphic>
          <a:graphicData uri="http://schemas.openxmlformats.org/drawingml/2006/table">
            <a:tbl>
              <a:tblPr/>
              <a:tblGrid>
                <a:gridCol w="4541760"/>
                <a:gridCol w="716040"/>
                <a:gridCol w="981000"/>
                <a:gridCol w="1390680"/>
                <a:gridCol w="981000"/>
              </a:tblGrid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кардиологические 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больных с остр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ом миокар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еврологические для больных с остр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ми мозгового кровообра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сихоневр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524"/>
          <p:cNvSpPr/>
          <p:nvPr/>
        </p:nvSpPr>
        <p:spPr>
          <a:xfrm>
            <a:off x="5562720" y="2514600"/>
            <a:ext cx="3352680" cy="10666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9 может быть больше суммы строк 19.1 + 19.2 за счет кардиологических коек для взросл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25"/>
          <p:cNvSpPr/>
          <p:nvPr/>
        </p:nvSpPr>
        <p:spPr>
          <a:xfrm>
            <a:off x="5562720" y="3886200"/>
            <a:ext cx="3352680" cy="106668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22 может быть больше суммы строк 22.1 + 22.2 за счет неврологических коек для взросл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25"/>
          <p:cNvSpPr/>
          <p:nvPr/>
        </p:nvSpPr>
        <p:spPr>
          <a:xfrm>
            <a:off x="228600" y="56386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наличии реанимационных коек в отделениях ПСО (первичные сосудистые отделения) и РСЦ (региональные сосудистые центры) сведения по ним показываем по строке 45 «реанимационные койк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838080"/>
          <a:ext cx="8534160" cy="3184560"/>
        </p:xfrm>
        <a:graphic>
          <a:graphicData uri="http://schemas.openxmlformats.org/drawingml/2006/table">
            <a:tbl>
              <a:tblPr/>
              <a:tblGrid>
                <a:gridCol w="3200400"/>
                <a:gridCol w="838080"/>
                <a:gridCol w="1371600"/>
                <a:gridCol w="2151000"/>
                <a:gridCol w="973080"/>
              </a:tblGrid>
              <a:tr h="60624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ы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ы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 сома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атологии новорожденных 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ношенных де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и для новорожд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407"/>
          <p:cNvSpPr/>
          <p:nvPr/>
        </p:nvSpPr>
        <p:spPr>
          <a:xfrm>
            <a:off x="4343400" y="2362320"/>
            <a:ext cx="4495680" cy="182880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з числа педиатрических коек приказом руководителя медицинской организации могут быть выделены койки патологии новорожденных и недоношенных, койки для новорожденных, которые показывают в строке 35.1 и 35.2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13"/>
          <p:cNvSpPr/>
          <p:nvPr/>
        </p:nvSpPr>
        <p:spPr>
          <a:xfrm>
            <a:off x="304920" y="4495680"/>
            <a:ext cx="8381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Койки для новорожденных, строка 35.1, развертываются для оказания медицинской помощи больным новорожденным в организаций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уровня -  перинатальные центры. Кроме того, в  педиатрических стационара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914400"/>
          <a:ext cx="8458200" cy="437508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1295280"/>
                <a:gridCol w="1676520"/>
                <a:gridCol w="1828800"/>
              </a:tblGrid>
              <a:tr h="596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 для новорожд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 для новорожд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VID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349"/>
          <p:cNvSpPr/>
          <p:nvPr/>
        </p:nvSpPr>
        <p:spPr>
          <a:xfrm>
            <a:off x="3962520" y="2819520"/>
            <a:ext cx="4876560" cy="106668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еанимационные койки строка 45 равна сумм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: 45.1, 45.2, 45.3, 45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44"/>
          <p:cNvSpPr/>
          <p:nvPr/>
        </p:nvSpPr>
        <p:spPr>
          <a:xfrm>
            <a:off x="304920" y="53341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кушерских стационарах медицинских организаций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ого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вня должны быть предусмотрены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нимаци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йки для новорожденных или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нсивной терапи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оворожде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" y="685800"/>
          <a:ext cx="8763120" cy="3733920"/>
        </p:xfrm>
        <a:graphic>
          <a:graphicData uri="http://schemas.openxmlformats.org/drawingml/2006/table">
            <a:tbl>
              <a:tblPr/>
              <a:tblGrid>
                <a:gridCol w="2286000"/>
                <a:gridCol w="762120"/>
                <a:gridCol w="1676160"/>
                <a:gridCol w="2362320"/>
                <a:gridCol w="1676520"/>
              </a:tblGrid>
              <a:tr h="40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койки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койки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ольных новорожд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(стр. 01) - платных коек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Rectangle 344"/>
          <p:cNvSpPr/>
          <p:nvPr/>
        </p:nvSpPr>
        <p:spPr>
          <a:xfrm>
            <a:off x="228600" y="4572000"/>
            <a:ext cx="8610480" cy="182880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. 78 показывают «движение» больных новорожденных. Это относится к новорожденным, родившимися больными или заболевшими в акушерских стационарах. Если перевод пациента не проводился и случай считается законченным в акушерском стационаре, то пациент показывается как выписанный (или умерший). Если новорожденный переводится, то показывается выписанным переводом в иную медицинскую организацию для долечивани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51"/>
          <p:cNvSpPr/>
          <p:nvPr/>
        </p:nvSpPr>
        <p:spPr>
          <a:xfrm>
            <a:off x="3200400" y="1981080"/>
            <a:ext cx="5791320" cy="53352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фили прочих коек, показанные в строках 76 и 77, должны быть расшифрова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52"/>
          <p:cNvSpPr/>
          <p:nvPr/>
        </p:nvSpPr>
        <p:spPr>
          <a:xfrm>
            <a:off x="3200400" y="2514600"/>
            <a:ext cx="5791320" cy="106668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латные койки включают в таблицу 3100 по строкам, соответствующим их профилям. Кроме того, сумму всех платных коек показывают в дополнительной стр. 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51"/>
          <p:cNvSpPr/>
          <p:nvPr/>
        </p:nvSpPr>
        <p:spPr>
          <a:xfrm>
            <a:off x="4267080" y="3886200"/>
            <a:ext cx="3886200" cy="38088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 стр. 78 графы 3-5 не заполняю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304920" y="1523880"/>
            <a:ext cx="8497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Необходимо обратить внимание на показатель деятельности стационара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: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Arial"/>
              </a:rPr>
              <a:t>Работа кой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анный показатель  не должен превышать рекомендованный по ТПГГ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Arial"/>
              </a:rPr>
              <a:t>(330 дней) в целом по медицинской организации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Arial"/>
              </a:rPr>
              <a:t>и, соответственно, по профилям кое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анализе работы койки рекомендовано принять во внимание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аспоряжение министерства здравоохранения Астраханской области от 29.05.2014 № 813р  «О нормативах для планирования объемов и ресурсов медицинской помощи на территории Астраханской област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(в редакции с изменениями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52280" y="914400"/>
          <a:ext cx="8775720" cy="3583080"/>
        </p:xfrm>
        <a:graphic>
          <a:graphicData uri="http://schemas.openxmlformats.org/drawingml/2006/table">
            <a:tbl>
              <a:tblPr/>
              <a:tblGrid>
                <a:gridCol w="1994040"/>
                <a:gridCol w="533520"/>
                <a:gridCol w="1249200"/>
                <a:gridCol w="1249560"/>
                <a:gridCol w="1250640"/>
                <a:gridCol w="1249560"/>
                <a:gridCol w="1249200"/>
              </a:tblGrid>
              <a:tr h="1494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фузионные 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3): число пациентов, которым выполнена аутогемо-трансфу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ерели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ерелито трансфузионны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редств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транс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зионных ослож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ервированная кров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ритроцитсодержащие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зма всех ви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т тромбоци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тогемотрансфуз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2"/>
          <p:cNvSpPr/>
          <p:nvPr/>
        </p:nvSpPr>
        <p:spPr>
          <a:xfrm>
            <a:off x="380880" y="25776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3200    Транфузионная помощ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49"/>
          <p:cNvSpPr/>
          <p:nvPr/>
        </p:nvSpPr>
        <p:spPr>
          <a:xfrm>
            <a:off x="685800" y="4648320"/>
            <a:ext cx="8001000" cy="205740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ВАЖНО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БЪЕМ ТРАНСФУЗИОННЫХ СРЕДСТВ УКАЗЫВАЕТСЯ 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ЛИТРАХ    НЕ ПУТАТЬ С ДОЗ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братить внимание на показате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бъемы на одно переливание и на одного пациент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 также число переливаний на одного паци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685800" y="121932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ДЕ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ДЕЯТЕЛЬНОСТЬ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МЕДИЦИНСКОЙ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ОРГАНИЗАЦИИ ПО ОКАЗАНИЮ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ОЙ ПОМОЩИ В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СТАЦИОНАРНЫХ УСЛОВ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ЛАГОДАРЮ ЗА ВНИМАНИЕ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610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 Минздравсоцразвития России от 17.05.2012 N 555н  «Об утверждении номенклатуры коечного фонда по профилям медицинской помощ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04920" y="11430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ОМЕНКЛАТУРА КОЕЧНОГО ФОНД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ПРОФИЛЯМ МЕДИЦИНСКОЙ ПОМОЩ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6320" y="1695600"/>
          <a:ext cx="8915400" cy="5113080"/>
        </p:xfrm>
        <a:graphic>
          <a:graphicData uri="http://schemas.openxmlformats.org/drawingml/2006/table">
            <a:tbl>
              <a:tblPr/>
              <a:tblGrid>
                <a:gridCol w="2658960"/>
                <a:gridCol w="625644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медицинской помощ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Профиль койки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е дело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ременных и рожениц, патологии беременности, койки сестринского ухода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ременных и рожениц, патологии беременности, гинекологические, гинекологические для детей, гинекологические для вспомогательных репродуктивны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я и иммунология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я и реаниматология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, реанимационные для новорожденных, интенсивной терапии, интенсивной терапии для новорожденных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я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ческие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венерология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логические, венерологические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я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, кардиологические интенсивной терапии, кардиологические для больных с острым инфарктом миокар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я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, неврологические для больных с острыми нарушениями мозгового кровообращения, неврологические интенсивной терапии, психоневрологические для детей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я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и новорожденных и недоношенных детей,  для новорожденных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3520" y="2286000"/>
          <a:ext cx="7848360" cy="3962520"/>
        </p:xfrm>
        <a:graphic>
          <a:graphicData uri="http://schemas.openxmlformats.org/drawingml/2006/table">
            <a:tbl>
              <a:tblPr/>
              <a:tblGrid>
                <a:gridCol w="2313000"/>
                <a:gridCol w="3043080"/>
                <a:gridCol w="249228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тд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рофилей ко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ФСН №30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3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 45, 4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е 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е для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ойной хирургии 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ойной хирургии для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 45, 4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некологические 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2"/>
          <p:cNvSpPr/>
          <p:nvPr/>
        </p:nvSpPr>
        <p:spPr>
          <a:xfrm>
            <a:off x="457200" y="533520"/>
            <a:ext cx="800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Важно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533520" y="990720"/>
            <a:ext cx="8305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Таблица 3100 заполняется по профилям коек, а не по наименова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отде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8394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койки общего профиля должны быть перепрофилированы и показаны по соответствующему профилю в соответствии с приказом Минздравсоцразвития России от 12.05.2012  № 555н (терапевтические, сестринского ухода, паллиативные или др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койки одноименного профиля, развернутые в различных отделениях медицинской организации, показывают суммарно одной строк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, в городской больнице на конец отчетного года работал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ерапевтическом отделении 5 коек по профилю «интенсивной терапии», в хирургическом отделении 5 коек по профилю «интенсивной терапии». В этом случае, в таблице 3100 по графе 3 строке 45.2 «интенсивной терапии» ставим 1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дел заполняется по данным «Сводной ведомости учета движения пациентов и коечного фонда медицинской организации, оказывающей медицинскую помощь в стационарных условиях» 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(учетная форма № 016/у-02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«Листков ежедневного учета движения пациентов и коечного фонда медицинской организации, оказывающей медицинскую помощь в стационарных условиях» 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(учетная форма № 007/у-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учаи перевода пациентов из любого профильного отделения в другое этой же медицинской организации показывают как внутрибольничные переводы. Пациенты, направленные в дневной стационар, в другую медицинскую организацию или из них, считают выписанным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водом и поступившими переводом, а не переведенны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50920" y="1017720"/>
          <a:ext cx="8642160" cy="5506920"/>
        </p:xfrm>
        <a:graphic>
          <a:graphicData uri="http://schemas.openxmlformats.org/drawingml/2006/table">
            <a:tbl>
              <a:tblPr/>
              <a:tblGrid>
                <a:gridCol w="2504880"/>
                <a:gridCol w="611280"/>
                <a:gridCol w="785880"/>
                <a:gridCol w="785880"/>
                <a:gridCol w="782640"/>
                <a:gridCol w="782640"/>
                <a:gridCol w="704880"/>
                <a:gridCol w="861840"/>
                <a:gridCol w="822240"/>
              </a:tblGrid>
              <a:tr h="258480">
                <a:tc rowSpan="3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филь коек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о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исло коек, фактически развернутых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свернутых на ремон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отчетном году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 конец отчетного го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 ни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спол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женных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сельской местност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редне-годовых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ступило пациентов, всего, че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 них сельских жител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 общего числа поступивших (гр. 6)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т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–17 ле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том числе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ллергологические для взрослы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ллергологические для дет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ля беременных и рожениц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ля патологии беременност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инекологические для взрослы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 них гинекологические для вспомогательны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продуктивных технолог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инекологические для дет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астроэнтерологические для взрослы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астроэнтерологические для дет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ематологические для взрослы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ематологические для дет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еронтологически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рматологические для взрослы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рматологические для дет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енерологические для взрослы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енерологические для дет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фекционные для взрослы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 них лепрозны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</a:t>
                      </a:r>
                      <a:r>
                        <a:rPr b="1" lang="ru-RU" sz="7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для </a:t>
                      </a:r>
                      <a:r>
                        <a:rPr b="1" lang="en-US" sz="7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COVID</a:t>
                      </a:r>
                      <a:r>
                        <a:rPr b="1" lang="ru-RU" sz="7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7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фекционные для дет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 них лепрозны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</a:t>
                      </a:r>
                      <a:r>
                        <a:rPr b="1" lang="ru-RU" sz="7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для </a:t>
                      </a:r>
                      <a:r>
                        <a:rPr b="1" lang="en-US" sz="7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COVID</a:t>
                      </a:r>
                      <a:r>
                        <a:rPr b="1" lang="ru-RU" sz="7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8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рдиологические для взрослы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рдиологические интенсивной терап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50040" rIns="50040" tIns="0" bIns="0" anchor="b">
                      <a:noAutofit/>
                    </a:bodyPr>
                    <a:p>
                      <a:pPr marL="34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рдиологические для больных с остры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фарктом миокард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Прямоугольник 3"/>
          <p:cNvSpPr/>
          <p:nvPr/>
        </p:nvSpPr>
        <p:spPr>
          <a:xfrm>
            <a:off x="179280" y="189000"/>
            <a:ext cx="8713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ОЙ ПОМОЩИ В СТАЦИОНАРНЫХ УСЛОВИЯ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ечный фонд и его исполь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100)              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ы по ОКЕИ: койка – 911; койко-день </a:t>
            </a:r>
            <a:r>
              <a:rPr b="0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111; человек – 7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24"/>
          <p:cNvSpPr/>
          <p:nvPr/>
        </p:nvSpPr>
        <p:spPr>
          <a:xfrm>
            <a:off x="5562720" y="4800600"/>
            <a:ext cx="3352680" cy="1447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и 17.2  и 18.2 включаю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инфекционные кой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.17 и 18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аналогично строка 45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ключается в стр.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5280" y="620640"/>
          <a:ext cx="8353440" cy="5418360"/>
        </p:xfrm>
        <a:graphic>
          <a:graphicData uri="http://schemas.openxmlformats.org/drawingml/2006/table">
            <a:tbl>
              <a:tblPr/>
              <a:tblGrid>
                <a:gridCol w="2490840"/>
                <a:gridCol w="608040"/>
                <a:gridCol w="699840"/>
                <a:gridCol w="781200"/>
                <a:gridCol w="619200"/>
                <a:gridCol w="779400"/>
                <a:gridCol w="700200"/>
                <a:gridCol w="857160"/>
                <a:gridCol w="817560"/>
              </a:tblGrid>
              <a:tr h="15264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сихиатрические для 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 них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сихосомат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7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матопсихиатр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7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сихиатрические для судебно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сихиатрической экспертиз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7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сихиатрические для де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фпатолог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ульмонологические для 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ульмонологические для де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диолог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абилитационные для 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абилитационные для взрослых больных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с заболеваниями центральной нервно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истемы и органов чув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абилитационные для взрослых больных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с заболеваниями опорно-двигатель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ппарата и периферической нервно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абилитационные наркологические дл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абилитационные сомат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абилитационные для де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абилитационные для детей с заболевания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ентральной нервной системы и орган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ув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абилитационные для детей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с заболеваниями опорно-двигатель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ппарата и периферической нервн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4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абилитационные сомат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4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анимационны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 них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анимационные для новорожд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5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тенсивной терап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5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тенсивной терапии для новорожд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5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">
                <a:tc>
                  <a:txBody>
                    <a:bodyPr lIns="51840" rIns="51840" tIns="0" bIns="0" anchor="b">
                      <a:noAutofit/>
                    </a:bodyPr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для 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COVID-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45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Таблица 2" descr=""/>
          <p:cNvPicPr/>
          <p:nvPr/>
        </p:nvPicPr>
        <p:blipFill>
          <a:blip r:embed="rId1"/>
          <a:stretch/>
        </p:blipFill>
        <p:spPr>
          <a:xfrm>
            <a:off x="603360" y="871560"/>
            <a:ext cx="8102520" cy="35416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24"/>
          <p:cNvSpPr/>
          <p:nvPr/>
        </p:nvSpPr>
        <p:spPr>
          <a:xfrm>
            <a:off x="1523880" y="4648320"/>
            <a:ext cx="7439040" cy="106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тоговую строку (1) включается «строка 80» начиная с 6 графы (это сумма строк со 2 по 77 (по основным строкам) + 80 строка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стр.80 – гр.3,4,5 в стр.1 не входя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45720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апример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нутрибольничный перевод в А** городской больниц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1371600"/>
          <a:ext cx="3581640" cy="1371600"/>
        </p:xfrm>
        <a:graphic>
          <a:graphicData uri="http://schemas.openxmlformats.org/drawingml/2006/table">
            <a:tbl>
              <a:tblPr/>
              <a:tblGrid>
                <a:gridCol w="1689120"/>
                <a:gridCol w="18925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и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AutoShape 59"/>
          <p:cNvSpPr/>
          <p:nvPr/>
        </p:nvSpPr>
        <p:spPr>
          <a:xfrm rot="18991800">
            <a:off x="685800" y="2209320"/>
            <a:ext cx="1457280" cy="692280"/>
          </a:xfrm>
          <a:prstGeom prst="rightArrow">
            <a:avLst>
              <a:gd name="adj1" fmla="val 50000"/>
              <a:gd name="adj2" fmla="val 52626"/>
            </a:avLst>
          </a:prstGeom>
          <a:solidFill>
            <a:srgbClr val="c0504d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тупи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61"/>
          <p:cNvSpPr/>
          <p:nvPr/>
        </p:nvSpPr>
        <p:spPr>
          <a:xfrm>
            <a:off x="3809880" y="1676520"/>
            <a:ext cx="1600200" cy="485640"/>
          </a:xfrm>
          <a:prstGeom prst="rightArrow">
            <a:avLst>
              <a:gd name="adj1" fmla="val 50000"/>
              <a:gd name="adj2" fmla="val 82376"/>
            </a:avLst>
          </a:prstGeom>
          <a:solidFill>
            <a:srgbClr val="c0504d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еведе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410080" y="1371600"/>
          <a:ext cx="3581640" cy="1279440"/>
        </p:xfrm>
        <a:graphic>
          <a:graphicData uri="http://schemas.openxmlformats.org/drawingml/2006/table">
            <a:tbl>
              <a:tblPr/>
              <a:tblGrid>
                <a:gridCol w="1676520"/>
                <a:gridCol w="1905120"/>
              </a:tblGrid>
              <a:tr h="3661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и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50000"/>
                      </a:srgbClr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2"/>
          <p:cNvSpPr/>
          <p:nvPr/>
        </p:nvSpPr>
        <p:spPr>
          <a:xfrm>
            <a:off x="2743200" y="35053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ФФСН №30, таблица 3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8"/>
          <p:cNvSpPr/>
          <p:nvPr/>
        </p:nvSpPr>
        <p:spPr>
          <a:xfrm rot="5400000">
            <a:off x="4381560" y="-1028520"/>
            <a:ext cx="457200" cy="8610480"/>
          </a:xfrm>
          <a:custGeom>
            <a:avLst/>
            <a:gdLst>
              <a:gd name="textAreaLeft" fmla="*/ 0 w 457200"/>
              <a:gd name="textAreaRight" fmla="*/ 164880 w 457200"/>
              <a:gd name="textAreaTop" fmla="*/ 224280 h 8610480"/>
              <a:gd name="textAreaBottom" fmla="*/ 8386200 h 861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14400" y="3962520"/>
          <a:ext cx="7543800" cy="2163600"/>
        </p:xfrm>
        <a:graphic>
          <a:graphicData uri="http://schemas.openxmlformats.org/drawingml/2006/table">
            <a:tbl>
              <a:tblPr/>
              <a:tblGrid>
                <a:gridCol w="2362320"/>
                <a:gridCol w="753840"/>
                <a:gridCol w="1257480"/>
                <a:gridCol w="1468440"/>
                <a:gridCol w="1701720"/>
              </a:tblGrid>
              <a:tr h="3049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дневные стационары  (всех тип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AutoShape 20"/>
          <p:cNvSpPr/>
          <p:nvPr/>
        </p:nvSpPr>
        <p:spPr>
          <a:xfrm rot="2167200">
            <a:off x="7623000" y="2344680"/>
            <a:ext cx="1457640" cy="692280"/>
          </a:xfrm>
          <a:prstGeom prst="rightArrow">
            <a:avLst>
              <a:gd name="adj1" fmla="val 50000"/>
              <a:gd name="adj2" fmla="val 52639"/>
            </a:avLst>
          </a:prstGeom>
          <a:solidFill>
            <a:srgbClr val="c0504d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ыпис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Прямая со стрелкой 10"/>
          <p:cNvCxnSpPr/>
          <p:nvPr/>
        </p:nvCxnSpPr>
        <p:spPr>
          <a:xfrm>
            <a:off x="2666880" y="2057040"/>
            <a:ext cx="2363040" cy="3963240"/>
          </a:xfrm>
          <a:prstGeom prst="straightConnector1">
            <a:avLst/>
          </a:prstGeom>
          <a:ln w="63360">
            <a:solidFill>
              <a:srgbClr val="990033"/>
            </a:solidFill>
            <a:miter/>
            <a:tailEnd len="med" type="arrow" w="med"/>
          </a:ln>
        </p:spPr>
      </p:cxnSp>
      <p:cxnSp>
        <p:nvCxnSpPr>
          <p:cNvPr id="68" name="Прямая со стрелкой 11"/>
          <p:cNvCxnSpPr/>
          <p:nvPr/>
        </p:nvCxnSpPr>
        <p:spPr>
          <a:xfrm flipH="1">
            <a:off x="6629040" y="2057040"/>
            <a:ext cx="838800" cy="3429720"/>
          </a:xfrm>
          <a:prstGeom prst="straightConnector1">
            <a:avLst/>
          </a:prstGeom>
          <a:ln w="63360">
            <a:solidFill>
              <a:srgbClr val="99003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Казимагомедова Светлана Николаевна</cp:lastModifiedBy>
  <dcterms:modified xsi:type="dcterms:W3CDTF">2022-12-13T11:10:34Z</dcterms:modified>
  <cp:revision>8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